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8CD-FF46-4381-8654-4F9BFEF9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31C2-232B-4D2B-A56A-8AC532CE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FA67-42CD-4787-8D69-983105BE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9B12-3332-4E9D-B140-0B4360D2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B4E8-3A61-42DA-BB83-500A55A5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792A-6D04-4248-AB15-DA2F6AF4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F833-2F2E-4A53-B5F3-0994E730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1FA6-5B05-4CA9-8B62-B92DDDBE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2B7-9E0A-4B59-83BD-E4805106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A760-B821-4114-8EF1-C3DD644F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9BF-9F8C-4746-867E-E44537CF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87A-BB04-48B6-8797-8619D919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8731-9CC9-4DD2-9F99-5C4E04819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0384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xter fait des exercic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809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 fait des exercices beaucou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505320"/>
            <a:ext cx="7086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 ne manque qu’une seule chose. Un petit paquet brun lui est enfin livré. Dexter a tôt fait de déchirer l’emballage. C’est son costume de hér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4191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sque Dexter sort dans la rue, portant son costume pour la première fois, il jette un regard aux alent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peux t’aider?” demande-t-il. Il guide le chiot aux yeux exorbités à travers la chauss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4191120"/>
            <a:ext cx="5791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en sûr, quand Clovis aperçoit Dexter, il ne peut s’empêcher de faire un commentaire: “Hé, Dex! Où est la mascarad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47242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yez cette souris qu’il attrape avant qu’elle ne tombe dans l’égou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4800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t ce voleur de sac qu’il réussit à neutralis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1280" y="4267080"/>
            <a:ext cx="5410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l répare le tuyau d’arrosage de son vois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52480" y="457200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l retrouve un chaton perd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êche un rat de toucher à un fil sous t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flipV="1" rot="10800000">
            <a:off x="1979640" y="4876560"/>
            <a:ext cx="564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père un porte-monnaie égar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teint un feu dans une poubell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352680" y="45720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 organise un grand nettoyage dans le quart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419720" y="3657600"/>
            <a:ext cx="472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’est Clovis qui est coincé dans un arbre! Vite, Dex, dépêche-toi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se rapprochant, Dexter aperçoit Clovis. Le gros matour a pourchassé un écureuil jusqu’au sommet d’un ar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 vais tomber! hurle Clovis. Au secours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1219320"/>
            <a:ext cx="2895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ls n’ont pas d’échelle pour le sauver. Oh là là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38088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’ai une idée! Sautez sur la planche et Dex va catapulter dans les ai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xter vole dans l’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xter atterrit dans l’ar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38480"/>
            <a:ext cx="6629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xter est un petit chien. Il a de petites pattes, une petite queue et un petit corps. On dirait un saucisson monté sur quatre boulettes de vi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648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ute, Clovis!” crie Dexter.  “Allez, saute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343400" y="38088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ovis saute de l’arbre et Dexter le sau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0481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t puis, Clovis dit, “Dexter, je voudrais être ton partenaire.”  “Bien 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ûr! Répond Dexter avec un sourire.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en sûr” “Nous sommes une équipe maintenant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800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i, tout chez Dexter est petit, sauf ses rêves: il veut devenir un héros! Ah oui! Il s’y voit déjà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1055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suis sûr que j’en suis capable, se dit-il. Si je veux devenir un héros, eh bien, je le peux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41972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xter se met donc au travail. Il dévore toutes les bandes dessinées de superhéros qui lui tombent sous la pat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90920" y="1143000"/>
            <a:ext cx="624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xter se doute bien qu’un héros doit avoir de gros muscles. Il lui faut de l’exercice, beaucoup d’exerc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80988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oublant d’efforts, il escalade la montagne de sacs à ordures. Il se hisse, et HOP! Il franchit le sommet il le redesc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ême quand une pointe de vitesse jusqu’au coin de la rue (aller et retour!) devient plus facile, Dexter continue ses exerc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7:12:33Z</dcterms:created>
  <dc:creator>CVJH-LAB</dc:creator>
  <dc:description/>
  <dc:language>en-US</dc:language>
  <cp:lastModifiedBy>nield411</cp:lastModifiedBy>
  <dcterms:modified xsi:type="dcterms:W3CDTF">2008-02-27T21:09:02Z</dcterms:modified>
  <cp:revision>16</cp:revision>
  <dc:subject/>
  <dc:title>Slide 1</dc:title>
</cp:coreProperties>
</file>